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0F20-78A1-4927-AF12-3EA24B8E5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1812-91EB-43CC-95EE-48D4D7D55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1133-E6A6-47AA-9898-78BE88AD4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F1BB-D292-4A80-B73E-34222BB95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BCE42-EFEB-4C42-B01C-A6572368A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54D83-C9E3-42CB-9203-095C754BE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E3531-ABF7-418D-A747-B41B995A4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3B754-BC11-45D0-97E3-8662E8175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550B0-9A7C-49AD-BD19-E6F617BB1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925EC-37BC-4352-9A62-8D01B62E9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35EA8-1A83-459C-8B51-42EB372AF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4A7E-8676-4841-B896-1C169370D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24529-996A-422E-AB3A-483FC8BDC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5DA72-3CF0-4FC9-925D-4AAC1B1D7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92216-A2BD-4B42-8C72-5FD36131F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8EBC9-AA76-4E1B-9D4E-28C80F941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AD5D9-C67B-4645-9AE0-DF7EFF424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3F42-6598-4DE8-A819-3A1BFB218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D163-032C-48AC-95B8-0EACD34DE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0DED-A711-49C2-8621-208239FFD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15A8-5395-4B5F-8117-FA358BA48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3B27-831D-4823-B3D8-83E23FDA3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4BAE-A22A-4E49-926A-012828B51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EC66-973C-4221-A472-ABB7D5717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CF68C-41D6-406D-B67E-E5D59503721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0B32C-4CFF-46E0-83BD-CB5CFC3AE9B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hokdissimo.ru/" TargetMode="External"/><Relationship Id="rId2" Type="http://schemas.openxmlformats.org/officeDocument/2006/relationships/hyperlink" Target="http://www.shokdissimo.ru/" TargetMode="External"/><Relationship Id="rId3" Type="http://schemas.openxmlformats.org/officeDocument/2006/relationships/hyperlink" Target="http://www.shokdissimo.ru/" TargetMode="External"/><Relationship Id="rId4" Type="http://schemas.openxmlformats.org/officeDocument/2006/relationships/hyperlink" Target="http://www.shokdadnibym.ccom/" TargetMode="External"/><Relationship Id="rId5" Type="http://schemas.openxmlformats.org/officeDocument/2006/relationships/hyperlink" Target="http://www.shokdadnibym.ccom/" TargetMode="External"/><Relationship Id="rId6" Type="http://schemas.openxmlformats.org/officeDocument/2006/relationships/hyperlink" Target="http://www.shokdadnibym.ccom/" TargetMode="External"/><Relationship Id="rId7" Type="http://schemas.openxmlformats.org/officeDocument/2006/relationships/hyperlink" Target="http://www.shokdadnibym.ccom/" TargetMode="External"/><Relationship Id="rId8" Type="http://schemas.openxmlformats.org/officeDocument/2006/relationships/hyperlink" Target="http://www.shokdadnibym.ccom/" TargetMode="External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hokoladnibym.com/foto/interesnye-fakty-o-shokolade/shoko-1.html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р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7448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ыполнила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езносикова Наталья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ченица 4 «А» класс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читель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уценко Жанна Александровн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1713960" y="458640"/>
            <a:ext cx="596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МОУ «Дубовская СО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 углублённым изучением отдельных предметов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619280" y="1557360"/>
            <a:ext cx="66978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9933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Шоколад - вред или польза?</a:t>
            </a:r>
            <a:endParaRPr b="0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9933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95280" y="3500280"/>
            <a:ext cx="5545080" cy="216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Используемые ресурсы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.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shokdissimo.r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www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.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6"/>
              </a:rPr>
              <a:t>shokdadnibym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Tahoma"/>
                <a:hlinkClick r:id="rId7"/>
              </a:rPr>
              <a:t>.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8"/>
              </a:rPr>
              <a:t>c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3.В.Согомонова: «Почему из-за плохого настроения так хочется                      шоколада» («Диеты, рецепты»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ыяснить -  полезен или вреден шоколад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Цель исследования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348000" y="3645000"/>
            <a:ext cx="3168720" cy="21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Изучить литературу по выбранной тем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овести эксперименты и опыты для определения пользы или вреда шоколад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Задачи исследования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508720" y="4365720"/>
            <a:ext cx="208908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182600" y="620280"/>
            <a:ext cx="7772400" cy="55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Tahoma"/>
              </a:rPr>
              <a:t>Объект исследования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  горький, темный, молочный и белый шоколад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Tahoma"/>
              </a:rPr>
              <a:t>Предмет</a:t>
            </a: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вред или польза от шоколад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Tahoma"/>
              </a:rPr>
              <a:t>Методы работы</a:t>
            </a: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анализ литературы, опыты, эксперименты, наблюден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Tahoma"/>
              </a:rPr>
              <a:t>Гипотеза</a:t>
            </a: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шоколад полезен для человек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Исследовательская часть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История шоколада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Состав и классификация шоколада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Полезен ли шоколад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" descr="http://i074.radikal.ru/0807/1d/542945bf3670.jpg"/>
          <p:cNvPicPr/>
          <p:nvPr/>
        </p:nvPicPr>
        <p:blipFill>
          <a:blip r:embed="rId1"/>
          <a:stretch/>
        </p:blipFill>
        <p:spPr>
          <a:xfrm>
            <a:off x="3276720" y="4508640"/>
            <a:ext cx="2735280" cy="20509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20000" y="1700280"/>
            <a:ext cx="1655640" cy="126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ЭКСПЕРИМЕНТЫ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) Если у вас плохое настроение, то возьмите плитку шоколада и съешьте её.                    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В результате данного эксперимента, через несколько минут у вас улучшается настроение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) На этот эксперимент потребуется несколько человек. Их нужно разделить на группы: одной группе дать горький или  тёмный шоколад, а второй группе - молочный или белый шоколад.                                                                                        В результате данного эксперимента мы узнаем, какой шоколад лучше влияет на настроение человека.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) Для этого эксперимента понадобится 4 человека (два мальчика и две девочки). Детей надо разделить на две группы по два человека. Одной группе дать леденцы, а другой шоколад.                                                                                                             В результате данного эксперимента мы делаем вывод, что шоколад влияет на настроение, а леденцы не ведут к изменению настроени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" descr="Интересные факты о шоколад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59640" y="476280"/>
            <a:ext cx="1800000" cy="12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ОПЫТ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) Берётся плитка шоколада и разогревается в микроволновой печи на 1 мин. 50 сек., размешать и добавить воды. Шоколад приобрёл жидкую консистенцию.         В результате данного опыта был сделан вывод, что шоколад можно употреблять не только в виде плитки, но и в жидком вид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) Берётся плитка шоколада, так же как и в первом опыте разогревается в микроволновой печи  на 1 мин. 50 сек., добавить молоко и нанести маску на лицо и оставить на 15 минут.                                                                                                     В результате данного эксперимента кожа лица стала гладкой и шелковисто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)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Берутся несколько видов шоколада и сравнивается их состав.                        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В результате данного опыта мы узнаём, что входит в состав шоколад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084720" y="260280"/>
            <a:ext cx="2448000" cy="1629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324000" y="5445000"/>
            <a:ext cx="102852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Темный и горький шоколад улучшает настроение гораздо быстрее, чем белый или молочный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Шоколад являет хорошим косметическим средством.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остав шоколада что горького, что молочного, что темного, что белого одинаковый, но в разных пропорциях.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Леденцы не влияют на настроение человека, т.к. в их составе нет какао-бобов, которым насыщен шоколад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Выводы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516720" y="476280"/>
            <a:ext cx="19429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24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11 ИЮЛЯ  -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ВСЕМИРНЫЙ ДЕНЬ ШОКОЛАД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219640" y="3500280"/>
            <a:ext cx="2448000" cy="16034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24000" y="4869000"/>
            <a:ext cx="2449440" cy="17478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250920" y="2322360"/>
            <a:ext cx="2484360" cy="18716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6659640" y="5232240"/>
            <a:ext cx="2158920" cy="16257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7070760" y="1844640"/>
            <a:ext cx="2073240" cy="15336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6"/>
          <a:stretch/>
        </p:blipFill>
        <p:spPr>
          <a:xfrm>
            <a:off x="2987640" y="2924280"/>
            <a:ext cx="2059200" cy="30225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7"/>
          <a:stretch/>
        </p:blipFill>
        <p:spPr>
          <a:xfrm>
            <a:off x="7308720" y="260280"/>
            <a:ext cx="135252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14:24:37Z</dcterms:created>
  <dc:creator>луценко</dc:creator>
  <dc:description/>
  <dc:language>en-US</dc:language>
  <cp:lastModifiedBy>луценко</cp:lastModifiedBy>
  <dcterms:modified xsi:type="dcterms:W3CDTF">2010-11-25T15:09:00Z</dcterms:modified>
  <cp:revision>3</cp:revision>
  <dc:subject/>
  <dc:title>р</dc:title>
</cp:coreProperties>
</file>